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1B79F-4E9B-4D4F-9393-71D1492E9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AE3E3-99FA-4EA6-BD8B-5DF8C949D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9AC92-B4F8-49E5-AEB0-3D9A29796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823E4-91B0-4C9E-8D94-43C42B618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0E717-8867-47B7-8D52-12C92C97A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69A14-4409-40CA-ABDF-87BA5D4B5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65612-ECF4-4F8A-ADFA-C36521B79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0EA73-D76E-4667-BA49-57B1FEE66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ECF94-0313-4559-BE18-628E96BAB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6B973-8814-4EFE-974E-9F0F21044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7662B-B398-4FE2-8005-7FE2E4714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5C4DD-FE09-443B-97CA-80F8CE063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1748B-F00B-4729-A465-D7B1DECE0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48380-560D-4B92-8F5C-75658CCAD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CFD58-CCE8-45EA-8A87-ED83004FE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BCF1F-79A5-442A-9EBB-8880DFF0B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E04C0-109F-43A0-B98E-F0059161F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6CC7A-6606-4E2B-8319-7C4A63979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B9972-86A3-4A43-836C-D77B61C0F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31BA8-646D-42A8-BD52-262D966DB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7E936-DAD2-43EF-BE49-380CF4B7F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88773-F29A-4BDC-9AAA-E885F9942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BE741-4253-4F0E-BD5F-C790641A6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0B6EB-0A0C-4420-8229-84DD8E2C6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F3FF2-6966-43EE-996A-A39EEF6CB18C}" type="slidenum"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6" name="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62120" y="1709640"/>
              <a:ext cx="7696080" cy="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1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i="1" lang="en-US" sz="41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857640" y="639144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2F1BD-EB5B-415B-962B-3222E03F1A9B}" type="slidenum"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file:///../Classroom%20Observation/Classroom%20Observation.avi" TargetMode="External"/><Relationship Id="rId2" Type="http://schemas.openxmlformats.org/officeDocument/2006/relationships/hyperlink" Target="file:///../Classroom%20Observation/Debrief%20&amp;%20Planned%20Learning.avi" TargetMode="External"/><Relationship Id="rId3" Type="http://schemas.openxmlformats.org/officeDocument/2006/relationships/hyperlink" Target="file:///../Classroom%20Observation/Pre-Conference.avi" TargetMode="External"/><Relationship Id="rId4" Type="http://schemas.openxmlformats.org/officeDocument/2006/relationships/hyperlink" Target="file:///../Classroom%20Observation/Team%20Coaching.avi" TargetMode="External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500" spc="-1" strike="noStrike">
                <a:solidFill>
                  <a:srgbClr val="336666"/>
                </a:solidFill>
                <a:latin typeface="Arial Black"/>
              </a:rPr>
              <a:t>T.O.T.A.L.</a:t>
            </a:r>
            <a:endParaRPr b="0" i="1" lang="en-US" sz="95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752120" y="3566880"/>
            <a:ext cx="54104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Teachers Observing Teaching And…Learning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Tackling the challenges and planning for 2008 …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s professional learning model is complex and requires considerable thought and ingenuity to take the idea and create an effective coaching model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oaching is not a stand-alone or a complete approach to P.D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Tackling the challenges and planning for 2008…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1. What have been the major challenges ?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2. How have you tackled them?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3. How are you planning for 2008 ?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4. How are you planning to implement individual coaching, team coaching, Lesson Study, Learning Walks…?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Effective Professional Learning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ff0000"/>
                </a:solidFill>
                <a:latin typeface="Arial"/>
              </a:rPr>
              <a:t>Principle 5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– Effective Professional Learning must be evidenced based and data driven to guide improvement and measure impact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Data isn't GOOD or BAD…..it’s what to teach next!!!!!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How do we/could we use student data in our work 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Schmoker says…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3100" spc="-1" strike="noStrike">
                <a:solidFill>
                  <a:srgbClr val="000000"/>
                </a:solidFill>
                <a:latin typeface="Arial"/>
              </a:rPr>
              <a:t>There is a marked difference between vague, well intentioned improvement efforts and carefully targeted, goal orientated, short term efforts aimed explicitly at getting measurable and substantive results quickly”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 </a:t>
            </a: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Utilising Student Data –within our coaching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. Analyse student dat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2. Search for explanation –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at’s going on instructionally 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at are the gaps 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3. Develop an instructional focu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4. Identify 1 or 2 goa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5. Assess student mastery using formative and summative assessme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6. Continue to analyse student data to drive instruct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7. Could include common assessment task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Student Work Samples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hen schools talk about being “data driven” people think of AIM, test scores, etc. But student work  is a powerful example of student data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xamining student work is complex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oaches should use </a:t>
            </a:r>
            <a:r>
              <a:rPr b="0" i="1" lang="en-US" sz="2700" spc="-1" strike="noStrike" u="sng">
                <a:solidFill>
                  <a:srgbClr val="000000"/>
                </a:solidFill>
                <a:uFillTx/>
                <a:latin typeface="Arial"/>
              </a:rPr>
              <a:t>Protocols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to break down the barriers that prevent close and critical examination of the work sampl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tensive examination of student work is critical in understanding what teachers think they’re teaching and what students are learning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Measuring our work…..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We need to measure the quality and impact of the coaching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BUT more importantly we need to be able to make links between the coaching, teacher learning and student achievement !!!!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How do we do this ????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1979640" y="333360"/>
            <a:ext cx="604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A BEGINNING……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68360" y="1844280"/>
            <a:ext cx="82296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ultimate goal of any staff development effort is in the transfer of new learning to the teacher’s active repertoire” (Burke &amp; Balwin, 1999)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Why T.O.T.A.L. ?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kilful artists, athletes and musicians never lose their need for coaching.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ikewise, to continually perfect their craft, teachers profit from coaching as well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 work effectively as a member of a team requires coaching.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e are the only profession that is expected to work as a team but practice our craft in isolatio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6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ew educational innovations achieve their full impact without a coaching component.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Joyce and Showers (1988) found that only when the component of coaching was added was the innovation internalized, valued and transferred to the classroom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Deprivatization enhances the intellectual capacities of teachers, which, in turn,  produces greater intellectual achievements in students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6666"/>
                </a:solidFill>
                <a:latin typeface="Arial Black"/>
              </a:rPr>
              <a:t>Impact of professional development &amp; training on job performance</a:t>
            </a:r>
            <a:endParaRPr b="0" lang="en-US" sz="2900" spc="-1" strike="noStrike">
              <a:solidFill>
                <a:srgbClr val="336666"/>
              </a:solidFill>
              <a:latin typeface="Arial Black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755640" y="1809720"/>
          <a:ext cx="7696080" cy="4398840"/>
        </p:xfrm>
        <a:graphic>
          <a:graphicData uri="http://schemas.openxmlformats.org/drawingml/2006/table">
            <a:tbl>
              <a:tblPr/>
              <a:tblGrid>
                <a:gridCol w="2664000"/>
                <a:gridCol w="1873080"/>
                <a:gridCol w="1440000"/>
                <a:gridCol w="1719000"/>
              </a:tblGrid>
              <a:tr h="85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ining components &amp; combin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nowledg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kills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nsfer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o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il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ory and demonstr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ium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ium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ory &amp; demonstration, practice and feedbac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ium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ory &amp; demonstration, practice, feedback and coach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6" name=""/>
          <p:cNvSpPr/>
          <p:nvPr/>
        </p:nvSpPr>
        <p:spPr>
          <a:xfrm>
            <a:off x="495360" y="6345360"/>
            <a:ext cx="8254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ference: Training components, their combinations and impact on job performance (based on Joyce and Sowers, 1988 adapted by Wallace, M.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 Claxton, g. et al (1996). Liberating the learner, London: Routledge, p.24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“ </a:t>
            </a: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GETTING TO THE GAME  ”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T.O.T.A.L. is really aimed at pulling the walls down and “getting to the game”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We </a:t>
            </a:r>
            <a:r>
              <a:rPr b="1" i="1" lang="en-US" sz="3500" spc="-1" strike="noStrike">
                <a:solidFill>
                  <a:srgbClr val="ff0000"/>
                </a:solidFill>
                <a:latin typeface="Arial"/>
              </a:rPr>
              <a:t>Look and Listen to the Learning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                           through –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1. Structured Classroom Observation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2. Structured Walks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3. The Lesson Study model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66"/>
                </a:solidFill>
                <a:latin typeface="Arial Black"/>
              </a:rPr>
              <a:t>The T.O.T.A.L. Journey</a:t>
            </a:r>
            <a:endParaRPr b="0" lang="en-US" sz="4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ceived Professional Leave or Leading School Fun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chools also invested $$$  to buy TIM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pent 8 days learning together (over 12 months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ached each oth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served each other coach &amp; given feedback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acilitator observes coaching and gives feedback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ach individuals and teams of teacher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 video as a tool to “Look and Listen to the Learning”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ake part in “Structured Walks” through classroom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esently trialling “The Lesson Study” proces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rategic planning each term, involving coach, principal and facilitato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324000" y="191592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ilitate Structured Classroom Observ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 skilled in facilitating “Teacher Learning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killed at constructing and posing questions to engage and transform though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kilful in enabling others to see how their practice really is, the impact it has and the ways it could be improv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p teachers explore their challenges and pursue their goa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ach individuals and teams of teach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serve the STUDENT LEARNING to analyse the teach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What do T.O.T.A.L Coaches do ?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900" spc="-1" strike="noStrike">
                <a:solidFill>
                  <a:srgbClr val="336666"/>
                </a:solidFill>
                <a:latin typeface="Arial Black"/>
              </a:rPr>
              <a:t>Elmore</a:t>
            </a:r>
            <a:r>
              <a:rPr b="0" lang="en-US" sz="2900" spc="-1" strike="noStrike">
                <a:solidFill>
                  <a:srgbClr val="336666"/>
                </a:solidFill>
                <a:latin typeface="Arial Black"/>
              </a:rPr>
              <a:t> – Bridging The Gap Between The Standards and Achievement</a:t>
            </a:r>
            <a:endParaRPr b="0" lang="en-US" sz="29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knowledge gap is not so much about knowing what good professional development looks like; it’s about knowing how to get it rooted in the institutional structure of schools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“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ence, successful professional development is likely to occur in schools and classroom settings, rather than off-site, and to involve work with individual teachers or small groups around the observation of actual teaching.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at is needed are, enlightened professional development practices that become part of the mainstream of school life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4700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257040" y="365040"/>
            <a:ext cx="8142120" cy="8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ategic planning each term, involving coach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incipal and facilitat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A Snapshot……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 u="sng">
                <a:solidFill>
                  <a:srgbClr val="99cc00"/>
                </a:solidFill>
                <a:uFillTx/>
                <a:latin typeface="Arial"/>
                <a:hlinkClick r:id="rId1"/>
              </a:rPr>
              <a:t>Classroom Observation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 u="sng">
                <a:solidFill>
                  <a:srgbClr val="99cc00"/>
                </a:solidFill>
                <a:uFillTx/>
                <a:latin typeface="Arial"/>
                <a:hlinkClick r:id="rId2"/>
              </a:rPr>
              <a:t>Debrief &amp; Planned Learning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 u="sng">
                <a:solidFill>
                  <a:srgbClr val="99cc00"/>
                </a:solidFill>
                <a:uFillTx/>
                <a:latin typeface="Arial"/>
                <a:hlinkClick r:id="rId3"/>
              </a:rPr>
              <a:t>Pre-conferenc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 u="sng">
                <a:solidFill>
                  <a:srgbClr val="99cc00"/>
                </a:solidFill>
                <a:uFillTx/>
                <a:latin typeface="Arial"/>
                <a:hlinkClick r:id="rId4"/>
              </a:rPr>
              <a:t>Team Coaching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66"/>
                </a:solidFill>
                <a:latin typeface="Arial Black"/>
              </a:rPr>
              <a:t>T.O.T.A.L. Coaches – Who are they ?</a:t>
            </a:r>
            <a:r>
              <a:rPr b="0" lang="en-US" sz="2500" spc="-1" strike="noStrike">
                <a:solidFill>
                  <a:srgbClr val="336666"/>
                </a:solidFill>
                <a:latin typeface="Arial Black"/>
              </a:rPr>
              <a:t> </a:t>
            </a:r>
            <a:endParaRPr b="0" lang="en-US" sz="25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rymple South P.S.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 Robyn Gallagher and Sandra Luitj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d Cliffs East P.S.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 Donna Seipolt and Craig War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rymple Sec. College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 Damian Hallinan and Gregor Alla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rymple P.S.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 Marie Therese O’Lea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ichols Point P.S.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 Marie Gi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haffey Sec. College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– Heather Birc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ildura Senior Colle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 Jenn Gervasonni and Heather Crawle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-3873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684360" y="0"/>
            <a:ext cx="799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THE TOTAL TE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AGENDA - Day 10 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i and Welc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ce-breaker –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he 3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fessional Reading – “How to Develop a Coaching Eye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en teachers look at teaching and learning, what do they actually see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TOTAL coach – “ What knowledge and skills do they have? How do we use them effectively?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ata driven Coaching ??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fl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esentations and Celebr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Professional Reading discussion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1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i="1" lang="en-US" sz="3100" spc="-1" strike="noStrike">
                <a:solidFill>
                  <a:srgbClr val="ff0000"/>
                </a:solidFill>
                <a:latin typeface="Arial"/>
              </a:rPr>
              <a:t>How to develop a coaching eye</a:t>
            </a:r>
            <a:r>
              <a:rPr b="0" lang="en-US" sz="3100" spc="-1" strike="noStrike">
                <a:solidFill>
                  <a:srgbClr val="ff0000"/>
                </a:solidFill>
                <a:latin typeface="Arial"/>
              </a:rPr>
              <a:t>”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1. Look at the knowledge, skills and strategies in the article. List and compare the knowledge, skills and strategies we’ve learnt together in TOTAL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2. What about content knowledge? How does this sit within our approach ?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A Coaching Eye……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What is Powerful Teaching and Learning?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an teachers see it and understand it ?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How do we help teachers open their eyes and minds to effective teaching and learning ?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Learning to </a:t>
            </a:r>
            <a:r>
              <a:rPr b="1" lang="en-US" sz="3100" spc="-1" strike="noStrike" u="sng">
                <a:solidFill>
                  <a:srgbClr val="000000"/>
                </a:solidFill>
                <a:uFillTx/>
                <a:latin typeface="Arial"/>
              </a:rPr>
              <a:t>really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look, listen and understand the learning, takes time. 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71640" y="533160"/>
            <a:ext cx="7486560" cy="7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6666"/>
                </a:solidFill>
                <a:latin typeface="Arial Black"/>
              </a:rPr>
              <a:t>Teaching and Learning Coaches.</a:t>
            </a:r>
            <a:br>
              <a:rPr sz="2900"/>
            </a:br>
            <a:r>
              <a:rPr b="0" lang="en-US" sz="2900" spc="-1" strike="noStrike">
                <a:solidFill>
                  <a:srgbClr val="336666"/>
                </a:solidFill>
                <a:latin typeface="Arial Black"/>
              </a:rPr>
              <a:t>(Coaches of Pedagogy)</a:t>
            </a:r>
            <a:endParaRPr b="0" lang="en-US" sz="29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4608360" cy="395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Could be focussing 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en-AU" sz="2000" spc="-1" strike="noStrike" u="sng">
                <a:solidFill>
                  <a:srgbClr val="000000"/>
                </a:solidFill>
                <a:uFillTx/>
                <a:latin typeface="Arial"/>
              </a:rPr>
              <a:t>Workshop Stru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500" spc="-1" strike="noStrike">
                <a:solidFill>
                  <a:srgbClr val="000000"/>
                </a:solidFill>
                <a:latin typeface="Arial"/>
              </a:rPr>
              <a:t>A. Mini-Lesson – 20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500" spc="-1" strike="noStrike">
                <a:solidFill>
                  <a:srgbClr val="000000"/>
                </a:solidFill>
                <a:latin typeface="Arial"/>
              </a:rPr>
              <a:t>B. Independent/Group Work 60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500" spc="-1" strike="noStrike">
                <a:solidFill>
                  <a:srgbClr val="000000"/>
                </a:solidFill>
                <a:latin typeface="Arial"/>
              </a:rPr>
              <a:t>C. Reflection/Sharing – 20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en-AU" sz="2000" spc="-1" strike="noStrike" u="sng">
                <a:solidFill>
                  <a:srgbClr val="000000"/>
                </a:solidFill>
                <a:uFillTx/>
                <a:latin typeface="Arial"/>
              </a:rPr>
              <a:t>P.o.L.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en-AU" sz="2000" spc="-1" strike="noStrike" u="sng">
                <a:solidFill>
                  <a:srgbClr val="000000"/>
                </a:solidFill>
                <a:uFillTx/>
                <a:latin typeface="Arial"/>
              </a:rPr>
              <a:t>V.E.L.S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500" spc="-1" strike="noStrike">
                <a:solidFill>
                  <a:srgbClr val="000000"/>
                </a:solidFill>
                <a:latin typeface="Arial"/>
              </a:rPr>
              <a:t>-  Interdisciplinary Learning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500" spc="-1" strike="noStrike">
                <a:solidFill>
                  <a:srgbClr val="000000"/>
                </a:solidFill>
                <a:latin typeface="Arial"/>
              </a:rPr>
              <a:t>- Physical and Personal and Social     Learnin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ssessment – For/As/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- Rubric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- Self assessment/peer assessmen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- Teacher Feedback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- Reflectio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-Using data to drive instruction …etc etc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Effective Approaches Such A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- Inquiry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- P.B.L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- Socratic Circles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- Philosophy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- Integrated Learning…..etc etc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7T09:42:14Z</dcterms:created>
  <dc:creator>User</dc:creator>
  <dc:description/>
  <dc:language>en-US</dc:language>
  <cp:lastModifiedBy>Anne Robinson</cp:lastModifiedBy>
  <dcterms:modified xsi:type="dcterms:W3CDTF">2007-11-15T20:03:42Z</dcterms:modified>
  <cp:revision>48</cp:revision>
  <dc:subject/>
  <dc:title>T.O.T.A.L.</dc:title>
</cp:coreProperties>
</file>